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7D8C-DB42-41DF-9FF2-311DB978891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study two types of animal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the mouse in the ma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study two types of animal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the mouse in the m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ype is instinctive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inctive behavior is something the animal is born knowing how to 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fish swimming and geese migrating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ther examples can you think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ype is instinctive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inctive behavior is something the animal is born knowing how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fish swimming and geese migr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ther examples can you think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type is learned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can probably guess, learned behavior is not instin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are not born knowing what to do or how to do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ed behavior is learned by experience and sometimes from a pa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lions and leopards learning how to hunt by watching and practicing with their m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type is learne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can probably guess, learned behavior is not instin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are not born knowing what to do or how to d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ed behavior is learned by experience and sometimes from a pa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lions and leopards learning how to hunt by watching and practicing with their m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behavior – think, think, think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of your behavior are instin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are learn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do you learn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three things you have learned in the last week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behavior – think, think, 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of your behavior are instin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are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do you learn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three things you have learned in the last wee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44ED-DC19-4DC7-B332-49840A02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A5E-C083-4331-BF3B-A231F317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D89A-9130-47F6-8768-43387C22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C78-B19F-418E-942E-23DE499D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1E45-F243-471E-BCE0-062C30EB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394B-2978-4556-B2D5-CD66CE07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F2A9-9F97-42AD-8ADB-4E016DD9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7A28-27ED-4598-9875-97B5FF1A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91CD-B6FC-48BA-9C07-A11AD361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6AB3-FD0D-43C5-A8E8-F0AC424F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C590-7590-4434-A4B4-6D8E9420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173-EBC3-4663-B940-40451B78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BFAB-4838-4614-B190-FA314FC7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56F6-045D-4715-9B92-2C4996A4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827F-7A5C-4D0A-AF04-1857F94D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C19F-A2A0-4AE6-909E-46EFFBE1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A766-7032-4DF3-9715-E80B769B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C5D89-DDFF-4BB1-8CBC-803A36C3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D4F27-954C-4373-BEA8-35E7288C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CFFD1-63CF-47FA-B26B-07E8BCB0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CA88A-863B-4B17-98E8-75DB6579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C0491-511E-42D9-880E-ACFD9052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0646-66B5-491D-BCEB-619715DD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5F68E-824A-48D8-83DE-236F8298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E7C84-CB3B-40D2-8369-58CC684B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A0B27-1955-4441-82CE-A8C50259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7FF1E-068B-4089-8DA6-EC12EB1B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10943-D669-4613-AD25-BCEEDC8B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078EE-90A0-4F41-82E7-3CE27892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7F9E3-9A9B-460D-9323-49543830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D5171-9479-45CC-A23C-F00B54BB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A30EE-90F9-4731-A93C-464503B6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4D804-BCB6-47A6-8820-5138D229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6C1-2B8C-4315-8122-89A42915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C1D71-1739-413F-A9F8-8663EB5D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B67E2-BC24-4258-8763-5E31C2B6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9BF54-08B8-41FA-BC3B-7E0A8A35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FD6D9-B194-473B-95BE-734E927C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C86BB-DEBB-488A-831D-22007102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F01A5-F5AC-40C0-B40A-11FC5264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5952A-6731-4478-BBA3-2FFDCD7B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C2A8D-D1F4-48C0-82D9-0B2FA8CF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83155-DFEB-4DB2-B479-9EDEA81A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01175-4B35-4D8C-87BB-58980E1A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39C6-6E65-45EB-BA80-54856D71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E0C62-6E65-4E1E-BB4D-B0204303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FDF66-2A75-474F-928F-1B4E0496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40270-6CB5-4EB5-98BB-96943122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C0870-398C-4D16-88B3-9C275B6A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0B9EF-D0FF-413A-9D35-CCFA41E5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C1D1C-3802-4D5B-A9D8-407E92D9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3DB3C-1CC2-488D-82D9-8A00F7ED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CAD9B-BDDE-428A-931B-679F9608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F2839-9B19-44AF-9B63-7199D2D0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35871-794C-42D3-AA8F-6290F8589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1E3-563A-46BA-955E-F58BDCBC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21604-5016-4358-8802-5774CA47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550-0792-48B2-BAFC-4CB1ED24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306-2FC8-4749-8EC5-A8C81E92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5C2-A215-49D9-8A51-6A950D85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FD72-5D57-417C-A1E3-49D2B6A1F641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90CC-BC3D-4B3E-89D9-6764A28A399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2BF5-A766-43DC-AC28-0DF96309A622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4DB8-1CE6-49B7-B66B-6D126365363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BAE0-E1FE-42AE-9338-138D89DBBD74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1A3F-2328-49B9-9F47-66E271931C0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900D-C08B-4D88-8A5C-6FBA584E97CC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C9BA-89A1-43D6-99F2-D48571FDDB0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A483-C9D4-4E6C-BD07-534A06887D4A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1908-895D-47E2-BF2E-A8A97496DBF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Perpetua"/>
              </a:rPr>
              <a:t>We will study two types of animal behavio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Perpetua"/>
              </a:rPr>
              <a:t>You are the mouse in the maz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Animal Behavior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237" name="Picture 5" descr="C:\Documents and Settings\carolyn.kinne\Local Settings\Temporary Internet Files\Content.IE5\XKKQW3N2\MCj04125760000[1].wmf"/>
          <p:cNvPicPr/>
          <p:nvPr/>
        </p:nvPicPr>
        <p:blipFill>
          <a:blip r:embed="rId1"/>
          <a:stretch/>
        </p:blipFill>
        <p:spPr>
          <a:xfrm>
            <a:off x="3581280" y="4191120"/>
            <a:ext cx="1903680" cy="2322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Book"/>
              </a:rPr>
              <a:t>The first type is instinctive behavior.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stinctive behavior is something the animal is born knowing how to d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 include fish swimming and geese migrating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other examples can you think of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2" descr="C:\Documents and Settings\carolyn.kinne\Local Settings\Temporary Internet Files\Content.IE5\E2LUDJLQ\MPj04310460000[1].jpg"/>
          <p:cNvPicPr/>
          <p:nvPr/>
        </p:nvPicPr>
        <p:blipFill>
          <a:blip r:embed="rId1"/>
          <a:stretch/>
        </p:blipFill>
        <p:spPr>
          <a:xfrm>
            <a:off x="304920" y="3429000"/>
            <a:ext cx="4495680" cy="3068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Documents and Settings\carolyn.kinne\Local Settings\Temporary Internet Files\Content.IE5\60TCN93U\MPj02627520000[1].jpg"/>
          <p:cNvPicPr/>
          <p:nvPr/>
        </p:nvPicPr>
        <p:blipFill>
          <a:blip r:embed="rId2"/>
          <a:stretch/>
        </p:blipFill>
        <p:spPr>
          <a:xfrm>
            <a:off x="4952880" y="3429000"/>
            <a:ext cx="3886200" cy="30481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The other type is learned behavior.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you can probably guess, learned behavior is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stinctiv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imals are not born knowing what to do or how to do i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rned behavior is learned by experience and sometimes from a par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 include lions and leopards learning how to hunt by watching and practicing with their mother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2" descr="C:\Documents and Settings\carolyn.kinne\Local Settings\Temporary Internet Files\Content.IE5\60TCN93U\MPj03138350000[1].jpg"/>
          <p:cNvPicPr/>
          <p:nvPr/>
        </p:nvPicPr>
        <p:blipFill>
          <a:blip r:embed="rId1"/>
          <a:stretch/>
        </p:blipFill>
        <p:spPr>
          <a:xfrm>
            <a:off x="1295280" y="4648320"/>
            <a:ext cx="2895840" cy="194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C:\Documents and Settings\carolyn.kinne\Local Settings\Temporary Internet Files\Content.IE5\60TCN93U\MPj04038420000[1].jpg"/>
          <p:cNvPicPr/>
          <p:nvPr/>
        </p:nvPicPr>
        <p:blipFill>
          <a:blip r:embed="rId2"/>
          <a:stretch/>
        </p:blipFill>
        <p:spPr>
          <a:xfrm>
            <a:off x="5257800" y="4648320"/>
            <a:ext cx="2895480" cy="19303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Your behavior – think, think, think…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at parts of </a:t>
            </a: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behavior are instinctive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at parts are learned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o do you learn from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Name three things </a:t>
            </a: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you have learned 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n the last week…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4" descr="C:\Documents and Settings\carolyn.kinne\Local Settings\Temporary Internet Files\Content.IE5\E2LUDJLQ\MPj04387390000[1].jpg"/>
          <p:cNvPicPr/>
          <p:nvPr/>
        </p:nvPicPr>
        <p:blipFill>
          <a:blip r:embed="rId1"/>
          <a:stretch/>
        </p:blipFill>
        <p:spPr>
          <a:xfrm>
            <a:off x="4876920" y="388620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:\Documents and Settings\carolyn.kinne\Local Settings\Temporary Internet Files\Content.IE5\E2LUDJLQ\MPj04365880000[1].jpg"/>
          <p:cNvPicPr/>
          <p:nvPr/>
        </p:nvPicPr>
        <p:blipFill>
          <a:blip r:embed="rId2"/>
          <a:stretch/>
        </p:blipFill>
        <p:spPr>
          <a:xfrm>
            <a:off x="1066680" y="4419720"/>
            <a:ext cx="1474920" cy="2209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C:\Documents and Settings\carolyn.kinne\Local Settings\Temporary Internet Files\Content.IE5\60TCN93U\MCj04151440000[1].wmf"/>
          <p:cNvPicPr/>
          <p:nvPr/>
        </p:nvPicPr>
        <p:blipFill>
          <a:blip r:embed="rId3"/>
          <a:stretch/>
        </p:blipFill>
        <p:spPr>
          <a:xfrm>
            <a:off x="2895480" y="4038480"/>
            <a:ext cx="1609920" cy="264348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8:49:12Z</dcterms:created>
  <dc:creator>Ector County ISD Employee</dc:creator>
  <dc:description/>
  <dc:language>en-US</dc:language>
  <cp:lastModifiedBy>LEGION2</cp:lastModifiedBy>
  <dcterms:modified xsi:type="dcterms:W3CDTF">2016-01-12T13:42:21Z</dcterms:modified>
  <cp:revision>8</cp:revision>
  <dc:subject/>
  <dc:title>Animal Behavior</dc:title>
</cp:coreProperties>
</file>